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3366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180F-031A-4501-870A-F3183713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829760"/>
            <a:ext cx="769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CA50-B96B-458C-A2E4-27F88492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8297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8297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A3F5-3112-4ABE-9E35-319874E4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8297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8297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8297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6C83-F91B-4845-83C0-C5F6D8B8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99D6-E6F7-47EB-A75B-F9752DAF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3C3D-2338-4F59-8B81-9CA9CA52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3F2C1-A976-4469-9077-07CBE2C7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05C5-646F-43BB-8458-F18AFED9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DF57-0462-447E-A066-C000D109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EF37-B26B-47D0-B2E5-19CD709F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8297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84DB-C583-49F0-99C3-584AD0E8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DADF-367D-4860-8E4C-95E0D768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8297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963D-5ADC-44CE-B92B-FA6D0EE7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829760"/>
            <a:ext cx="769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3F52-190E-438C-A113-39663500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829760"/>
            <a:ext cx="769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E5E0-3E0C-469E-9353-BD979213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8297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8297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62B4-FBA4-4D9D-A84D-D68A8D51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8297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8297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829760"/>
            <a:ext cx="2476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DAFD-B2DC-4E0C-BAD5-E9F28873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051-F008-41AC-AA98-2ECDBD09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69C4-CD83-4C7E-83BD-4FFC5F00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C39-4C2F-4CA2-A1B9-9BDCB5DB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5698-C716-442C-853C-86836DC1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8297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48FC-FDF2-4963-B2BC-77C530D4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8297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E49D-7B9E-45D3-BC4C-6B13A5DB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829760"/>
            <a:ext cx="7693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30B-0897-4ACF-8ADB-229467BF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7E5F-67D8-4F5D-96CB-B7E992BDDE9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40F4-1663-4AD2-9A90-2CA29524104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hapter 7</a:t>
            </a:r>
            <a:br>
              <a:rPr sz="24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EMOCRACY IN DISTRESS </a:t>
            </a:r>
            <a:br>
              <a:rPr sz="32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he Violence of Party Politics, 1788–1800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724280" y="274320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66"/>
                </a:solidFill>
                <a:latin typeface="Arial"/>
              </a:rPr>
              <a:t>America Past and Present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66"/>
                </a:solidFill>
                <a:latin typeface="Arial"/>
              </a:rPr>
              <a:t>Eighth Edition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Divine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6666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Breen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6666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Fredrickson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6666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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Williams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6666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Gross  </a:t>
            </a:r>
            <a:r>
              <a:rPr b="0" lang="en-US" sz="1600" spc="-1" strike="noStrike">
                <a:solidFill>
                  <a:srgbClr val="006666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006666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Brand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70160" y="76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05560" y="6459480"/>
            <a:ext cx="381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66"/>
                </a:solidFill>
                <a:latin typeface="Arial"/>
              </a:rPr>
              <a:t>Copyright 2007, Pearson Education, Inc., publishing as Longman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7740720" cy="112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rges of Treason: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Battle over Foreign Affairs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9720" y="2685960"/>
            <a:ext cx="7407360" cy="34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nch Revolutionary Wars shaped U.S. political divi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ffersonian Republican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vored Fra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tes’ righ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rict interpretation of the Constitutio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miltonian Federalis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vored Engl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rong central government and economic plan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intenance of order by federal troop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Peril of Neutral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itish still occupied Ohio River Valley and discriminated against American tra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anco-British War broke out, 179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gland violated American sovereignty and neutrality on high se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fferson: punish England by cutting off trad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milton: appease England because too stro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nch diplomat Edmond Genet challenged American neutrality repeatedly in publ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y’s Treaty Spark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mestic Unre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2619000"/>
            <a:ext cx="76932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ohn Jay to England to deman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al of English from American soi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yment for ships illegally seiz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tter commercial rel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ceptance of United States’ neutra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milton informed English that U.S. not fi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y’s Treaty won no conces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shington disliked, but accepted, trea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y’s Treaty Sparks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mestic Unre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nate ratified by smallest possible marg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spapers viciously attacked trea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ublicans, press criticized Washing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arification of executive privilege in national security affai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ouse demanded papers related to Jay’s mi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shington claimed right to withhold national security secre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shington’s prestige muted criticism, but bitter partisan division already entrench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shing the Native Americans Aside: The Ohio Count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61760" y="2437920"/>
            <a:ext cx="7692840" cy="407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itish encouraged Indians to attack settlers as they withdra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ttle of Fallen Timbers (1794)—U.S. army defeated alliance of Indian nations in Oh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aty of Greenville (1794)—forced Indian removal from Ohi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itish withdrew support from Indians, pulled back into Can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shing the Native Americans Aside: New Orleans and Flori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0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in had closed Mississippi River to Americ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ain interpreted Jay’s Treaty as Anglo-American alliance against Sp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aty of San Lorenzo (Pinckney’s Treat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anish opened the Mississippi to U.S. W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tled disputed border between Florida and U.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anish ceased inciting Indians against settl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quest of the We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057400" y="2362320"/>
            <a:ext cx="57816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pular Political Cul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itical “parties” condemned as fa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spread concern over loss of common revolutionary purp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ists and Republicans suspected each others’ loyal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y members thought it a patriotic duty to destroy opposing par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forming the Public: 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ws and Poli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484360"/>
            <a:ext cx="76932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people highly lite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spapers widely read, highly influent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spapers shrill, totally partis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itical clubs promoted political ide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ubs associated with Republican par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spapers and clubs the main sources of political inform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iskey Rebellion: Charges of Republican Conspirac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492280"/>
            <a:ext cx="7693200" cy="459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cise tax on whiskey imposed 179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794—Pennsylvania farmers protes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ublican governor refused to a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deralists interpreted as Republican conspira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shington and Hamilton led 15,000-man army to crush the rebell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bels could not be fou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shington blamed Republican clubs for encouraging unr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efferson saw it as excuse to raise army to intimidate op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ce of Public Opin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Root cause of political parties: ambiguity of republican ideology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Federalists (Hamiltonians) 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Rapid integration into world economy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Distrusted common man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Strong national institutions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Republicans (Jeffersonians)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Faith in white yeoman farmers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With no government intrusion, they could retain virtue and resist crass materialism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3366"/>
                </a:solidFill>
                <a:latin typeface="Arial"/>
              </a:rPr>
              <a:t>New dynamic public opinion</a:t>
            </a:r>
            <a:endParaRPr b="0" lang="en-US" sz="27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Average people no longer deferred to their social “betters”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ashington’s Farewe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shington increasingly sympathetic to Federali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ll 1796—Washington released Farewell Address, written by Hamil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nouncement timed to prevent Republican organization of presidential campai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rned against permanent “foreign entanglement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lection of 1796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0" t="14971" r="0" b="0"/>
          <a:stretch/>
        </p:blipFill>
        <p:spPr>
          <a:xfrm>
            <a:off x="1066680" y="2895480"/>
            <a:ext cx="777240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dams Presidenc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tterly divisive election in 179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ists divided, Hamilton tried to push Pinckney over Ada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ams forced to accept people not supportive in cabi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ublican Jefferson is vice-presid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deralist Department heads more loyal to Hamilton than Ad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XYZ Affair and Domestic Polit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2426760"/>
            <a:ext cx="7693200" cy="465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ay’s Treaty prompted France to treat U.S. as unfriendly n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si-war: French seized U.S. ship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plomatic mission failed when three French officials (X, Y, and Z) demanded bri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oked anti-French outrage in U.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ists attempted to crush Republicans by branding as pro-Fren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ushing Political Diss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ists began building up the arm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stensible purpose: repel French inva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tual intention: stifle internal op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milton commanded army, controlled offic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milton sought declaration of war against France to begin operations against diss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ams created navy, refused to ask Congress for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lencing Political Opposition: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Alien and Sedition A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21560" cy="429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ien and Sedition Ac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 to silence Republica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rst civil liberties cris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ien Enemies Act and Alien Act gave the president power to expel any foreign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Naturalization Act required U.S. residency of fourteen years for citizenshi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dition Act criminalized criticism of the gover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deralist appointees in federal courts enforced Sedition Act in absurd way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publican Congressman Mathew Lyon arrested, won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-election from jai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entucky and Virginia Resolu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publicans saw Alien and Sedition Acts as dire threat to liber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irginia and Kentucky Resolutions said states have final say in determining constitutionality of federal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Jefferson’s Kentucky Resolutions—states may nullify unconstitutional federal la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dison's Virginia Resolutions—urged states to protect their citizen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rpose of resolutions: clarify differences between Republicans and Federalists, not justify sece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ams’s Finest Ho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799—Adams broke with Hamil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nt new team to negotiate with F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r hysteria against France vanish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milton’s army seen as a useless expe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vention of Mortefonta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compensation for seized American shi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778 treaties null and vo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rench restrictions on U.S. commerce remov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d climate of trust between France and U.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Peaceful Revolution: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lection of 18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9720" y="2757600"/>
            <a:ext cx="7549920" cy="429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milton’s High Federalists led campaign to replace Adams with Pinck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ederalists lost, but Republicans Jefferson and Burr ti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me duck Federalist House of Representatives would break the t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milton and Federalists decided Jefferson better than Bur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welfth Amendment separated votes for president and vice-president to avoid repeat of this sit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Peaceful Revolution: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lection of 18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dams and the “midnight judge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ief Justice John Marsh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efferson’s inaugural: “we are all republicans, we are all federalist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eralists lost touch with publ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924680" cy="185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inciple and Pragmatism: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tablishing a New Govern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22120" y="2776680"/>
            <a:ext cx="7265880" cy="37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orge Washington unanimously elected president, 178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ashington’s skilled use of symbols of power were key to his presidential succ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rand tours 1789, 179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gress established three executive departments: War, State, and Treasu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udiciary Act of 1789 established Supreme Court and thirteen District Cour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789—5% tariff levied to fund govern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lection of 18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0" t="17469" r="0" b="0"/>
          <a:stretch/>
        </p:blipFill>
        <p:spPr>
          <a:xfrm>
            <a:off x="1143000" y="2971800"/>
            <a:ext cx="7696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nger of Political Extrem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ction of 1800 one of the most import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ansfer of power from Federalists to Republicans achieved peacefu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ion averted ideological civil w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flicting Visions: 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lexander Hamilt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671560"/>
            <a:ext cx="76932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shington’s aide-de-camp in Revol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retary of the Treasu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anted stronger ties to Brit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lieved strong central government preserves national independ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visioned U.S. as an industrial p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ared anarchy more than tyran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nflicting Visions: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omas Jefferso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2550600"/>
            <a:ext cx="7693200" cy="453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retary of state under Washing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lieved limited government preserves libert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visioned U.S. as an agrarian n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usted the common peo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gainst large deb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amilton’s Plan for Prosperity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 Secur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619000"/>
            <a:ext cx="769320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gress asked Hamilton for suggestions for solutions to debt proble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produced three repor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ublic Cred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nk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nufactur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bt of $54 million, additional state debt of $25 mill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% of debt held by specula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unding and Assump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243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unding: Congress redeems federal certificates of debt at face value to current hold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sisted bondholders support new govern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iticized by Madison and others because most debt in hands of speculato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ssumption: federal government purchases states’ deb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posed by states that had already paid their deb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dison at first led Congress to defeat the funding propos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Eventually passed in exchange for locating capital on Potoma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erpreting the Constitution: 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Bank Controvers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814120"/>
            <a:ext cx="7693200" cy="427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ional bank privately owned, partly funded by federal govern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posed because it might “perpetuate a large monied interest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efferson opposed it as unconstitutional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milton defended constitutionality through doctrine of “implied powers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gress chartered bank, 179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ed perception that Hamilton was bringing corrupt British system to Amer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tback for Hamilt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24382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port on Manufacturing (1791) sought federal encouragement for manufactu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tective tariffs and industrial boun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dison warned that program would strengthen federal government at state expen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efferson warned that the rise of cities would destroy agriculture and agrarian civic virt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therners opposed to protective  tariff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milton’s recommendations defea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20:06:58Z</dcterms:created>
  <dc:creator>CMU</dc:creator>
  <dc:description/>
  <cp:keywords/>
  <dc:language>en-US</dc:language>
  <cp:lastModifiedBy>Barbara Witmer</cp:lastModifiedBy>
  <cp:lastPrinted>2006-10-10T00:37:18Z</cp:lastPrinted>
  <dcterms:modified xsi:type="dcterms:W3CDTF">2007-02-01T19:48:33Z</dcterms:modified>
  <cp:revision>39</cp:revision>
  <dc:subject/>
  <dc:title>CHAPTER 7  DEMOCRACY IN DISTRESS: THE VIOLENCE OF PARTY POLITICS, 1788-1800</dc:title>
</cp:coreProperties>
</file>